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gif" ContentType="image/gif"/>
  <Override PartName="/ppt/media/image11.gif" ContentType="image/gif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7.jpeg" ContentType="image/jpeg"/>
  <Override PartName="/ppt/media/image5.wmf" ContentType="image/x-wmf"/>
  <Override PartName="/ppt/media/image6.jpeg" ContentType="image/jpeg"/>
  <Override PartName="/ppt/media/image9.png" ContentType="image/png"/>
  <Override PartName="/ppt/media/image8.wmf" ContentType="image/x-wmf"/>
  <Override PartName="/ppt/media/image10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0165-3020-4C7B-A80D-1F497948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36A-D91D-4927-BDB5-C6CD03BD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FBF-9BB3-4456-8D8C-10851B08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7F0A-FDCF-4F89-8A8D-4E36A3FE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3411-87AB-4569-B7B2-2B490AC6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9C8F-B56E-4093-B324-8275469D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91B0-535F-4A85-8302-FE5959EB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6217-7F2E-4254-9B52-D91967D8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A1E5-8FC9-4084-853C-9CA7D34F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250E-8C7C-4053-8B21-3890D7A8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3DC3-4F69-4F4F-B0A2-A5E25163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E40D-ADCD-4A6F-BC78-A306D6CF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DE59-31E2-4C88-8CCD-07896EFD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918A-5A73-4F82-B166-A05EBDA5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EFA4-19F5-41C1-9E54-A247838D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3B70-1345-438C-994A-31287CCB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F0B7-A197-425D-9DE8-492EA799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AECEE-1BD1-4553-99C7-EAC20F8A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8133B-D298-42A5-9428-BD101C97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D82BF-6F4D-466B-A796-7290EFBF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13D2B-79F6-40DA-A153-536D1F21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5A7BB-6682-485F-8A34-0B71E57D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1C75-6737-4357-9918-7A00351B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940BB-3836-41B3-9478-9F4A9387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679AD-E549-4EA4-90F4-D0439335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7C843-6C8F-43CD-B756-46B8CFD7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B97F1-B6F8-49BD-8695-2240EB7E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9F340-D544-4167-B5BA-6C960686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9D4C7-6216-4B40-A793-F3452159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4B7D7-14E5-42DB-8163-7D60D699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48F16-5FE4-4A74-93FA-AD8D5DEA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DE810-87E7-4772-A2A6-BFFC0BE6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57D49-5989-4598-827E-A5FEDE04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B254-6FE7-4CD0-9278-7BF4161A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CD5A8-8D0F-422B-8420-17458953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BE0B6-0CED-40E4-BC7B-1CF43946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F7AB0-B696-4C9C-9D8F-202458E6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5901D-82FA-413C-B288-1C1C8FA4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FC46B-869D-4992-AE9E-135CDFD2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EB2B8-0147-4928-B781-331BBC98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295DF-73D3-4DC8-BE0B-1D992EAB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C2119-CDC6-4E16-900A-F2FC7FA57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B8634-F2CC-4D07-9D36-2D9E7B0B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7F8D3A-3C47-4BA0-A049-F7052A51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851-790D-41E1-AA22-8335170F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62B986-A11E-42A9-A754-893C4681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201AE0-3A9D-4833-B729-DE3F5364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6F5725-ECAE-4406-8CD8-2BC34F5F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C77471-793A-4EFC-B5C0-054883F4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83334-575F-4678-9AC4-771D0BC8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D143E-16A4-4AE6-8A3C-5DC2DE0A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FD7D9B-2D6F-4A48-A2F0-760B12CB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506A0C-24E6-411A-A69F-76EAAC20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F786EE-0EEC-4AA3-A546-71951956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136269-2386-482E-B75B-AB1B0315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7D88-99DB-4162-9EDD-DA0395AA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CE2E0E-0B9B-445D-B9B9-A777F460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9FE4-3B38-4AA3-9D83-DD792982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416D-B7B2-4788-8310-B3243D3C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6AFB-8D0F-4FDA-8611-BDB52318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05A4-2543-4DA8-B693-67D9950EC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22C5-5490-43BE-96CC-08BD3FB93AC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AAD4-0509-41C8-9B07-6A109B9EE66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D79F-C3ED-44B0-9115-69CEEBC7AE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B6B1-DC69-42C1-A41C-81B8E3F788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960720" cy="29350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971640" y="3068640"/>
            <a:ext cx="77040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Georgia"/>
              </a:rPr>
              <a:t>«Дробные решения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Georgia"/>
              </a:rPr>
              <a:t>5 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116000" y="765000"/>
            <a:ext cx="265752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рок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утешеств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3290760" cy="35128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1042920" y="404640"/>
            <a:ext cx="3743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шите уравнение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861840" y="2023920"/>
                <a:ext cx="5115240" cy="211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0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3,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332000" y="765000"/>
            <a:ext cx="6408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инамическая пауз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3492360" y="2708280"/>
            <a:ext cx="2157480" cy="27734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5"/>
          <a:stretch/>
        </p:blipFill>
        <p:spPr>
          <a:xfrm>
            <a:off x="826920" y="2852640"/>
            <a:ext cx="2027520" cy="32403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6"/>
          <a:stretch/>
        </p:blipFill>
        <p:spPr>
          <a:xfrm>
            <a:off x="6489720" y="1700280"/>
            <a:ext cx="24256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7629480" cy="102823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1042920" y="0"/>
            <a:ext cx="19796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шите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"/>
          <p:cNvSpPr/>
          <p:nvPr/>
        </p:nvSpPr>
        <p:spPr>
          <a:xfrm>
            <a:off x="250920" y="986760"/>
            <a:ext cx="396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Лодочная  база на Волге находится в 34,3 км от Саратова вверх по реке. Скорость течения реки 1,3 км/ч. Чтобы до Саратова  добраться лодочник от базы должен плыть на лодке 3,5 ч. Найдите собственную скорость ло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042920" y="0"/>
            <a:ext cx="19796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шите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"/>
          <p:cNvSpPr/>
          <p:nvPr/>
        </p:nvSpPr>
        <p:spPr>
          <a:xfrm>
            <a:off x="250920" y="1216080"/>
            <a:ext cx="4321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Река Волга в низовье образует 4 рукава.  Первый рукав  имеет длину 4,35 км,  второй – в 1,5 раза длиннее первого, третий длиннее второго на 1,03 км, четвертый – в 2,5 раза короче третьего. Найдите общую длину рукавов Волги в низ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716360" y="1125360"/>
            <a:ext cx="442764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17720" cy="1600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2556000" y="404640"/>
            <a:ext cx="5038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мостоятельная рабо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684360" y="1773360"/>
          <a:ext cx="7416720" cy="3697200"/>
        </p:xfrm>
        <a:graphic>
          <a:graphicData uri="http://schemas.openxmlformats.org/drawingml/2006/table">
            <a:tbl>
              <a:tblPr/>
              <a:tblGrid>
                <a:gridCol w="3632040"/>
                <a:gridCol w="3784680"/>
              </a:tblGrid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Решите у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5,04 : (104,2 – х) = 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1,2х + 4,5х – 0,7 = 1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Решите у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,72:(203,2 – х) = 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1,3х + 3,8х – 0,03 = 2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Решите задач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Масса портфеля с книгами равна 6,2 кг, а масса пустого портфеля в 14,5 раза меньше массы книг. Какова масса книг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Решите задач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Масса корзины с грушами равна 11,4  кг, а масса груш в 8,5 раза больше массы пустой корзины. Какова масса груш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47920" y="227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повторить п. 34-35 учебник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По дидактическим материалам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 с-32 вар Б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755640" y="765000"/>
            <a:ext cx="799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 за  урок!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27" name=""/>
          <p:cNvSpPr/>
          <p:nvPr/>
        </p:nvSpPr>
        <p:spPr>
          <a:xfrm>
            <a:off x="1908000" y="5661000"/>
            <a:ext cx="762120" cy="63036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5589720"/>
            <a:ext cx="685800" cy="609480"/>
          </a:xfrm>
          <a:prstGeom prst="smileyFace">
            <a:avLst>
              <a:gd name="adj" fmla="val -416"/>
            </a:avLst>
          </a:prstGeom>
          <a:solidFill>
            <a:srgbClr val="ffff66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164360" y="5589720"/>
            <a:ext cx="685800" cy="609480"/>
          </a:xfrm>
          <a:prstGeom prst="smileyFace">
            <a:avLst>
              <a:gd name="adj" fmla="val -4652"/>
            </a:avLst>
          </a:prstGeom>
          <a:solidFill>
            <a:srgbClr val="ffff66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3492360" y="3068640"/>
            <a:ext cx="91440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одинако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348000" y="2924280"/>
            <a:ext cx="114480" cy="579240"/>
          </a:xfrm>
          <a:prstGeom prst="upDownArrow">
            <a:avLst>
              <a:gd name="adj1" fmla="val 50000"/>
              <a:gd name="adj2" fmla="val 100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98680" y="2867040"/>
            <a:ext cx="1536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332000" y="2205000"/>
          <a:ext cx="6146640" cy="1547640"/>
        </p:xfrm>
        <a:graphic>
          <a:graphicData uri="http://schemas.openxmlformats.org/drawingml/2006/table">
            <a:tbl>
              <a:tblPr/>
              <a:tblGrid>
                <a:gridCol w="1536480"/>
                <a:gridCol w="1536840"/>
                <a:gridCol w="1536840"/>
                <a:gridCol w="15364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Масса 1 дм</a:t>
                      </a:r>
                      <a:r>
                        <a:rPr b="1" i="1" lang="en-US" sz="2000" spc="-1" strike="noStrike" baseline="30000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Объ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Масса дет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1 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3,5 дм</a:t>
                      </a:r>
                      <a:r>
                        <a:rPr b="1" i="1" lang="en-US" sz="2000" spc="-1" strike="noStrike" baseline="30000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27,3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2 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10,92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2111760" y="4060800"/>
            <a:ext cx="51141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7,3:3,5 = 7,8 (кг в 1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дм</a:t>
            </a:r>
            <a:r>
              <a:rPr b="1" i="1" lang="en-US" sz="2000" spc="-1" strike="noStrike" baseline="30000">
                <a:solidFill>
                  <a:srgbClr val="000099"/>
                </a:solidFill>
                <a:latin typeface="Arial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,92: 7,8 = 1,4 (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дм</a:t>
            </a:r>
            <a:r>
              <a:rPr b="1" i="1" lang="en-US" sz="2000" spc="-1" strike="noStrike" baseline="30000">
                <a:solidFill>
                  <a:srgbClr val="000099"/>
                </a:solidFill>
                <a:latin typeface="Arial"/>
                <a:ea typeface="Times New Roman"/>
              </a:rPr>
              <a:t>3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Ответ: Объём второй детали равен 1,4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дм</a:t>
            </a:r>
            <a:r>
              <a:rPr b="1" i="1" lang="en-US" sz="2000" spc="-1" strike="noStrike" baseline="30000">
                <a:solidFill>
                  <a:srgbClr val="000099"/>
                </a:solidFill>
                <a:latin typeface="Arial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1700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703dff"/>
                </a:solidFill>
                <a:latin typeface="Arial"/>
              </a:rPr>
              <a:t>14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311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,136 : (1,9 – х) = 7,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,9 – х = 2,136 : 7,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,9 – х = 0,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= 1,9 - 0,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= 1,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2271240" y="1557360"/>
            <a:ext cx="4191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62. Решите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36000" y="2121480"/>
            <a:ext cx="278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,2 * (0,8 + х) = 8,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,8 + х = 8,82 : 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,8 + х = 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= 2,1 – 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 = 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43280" y="4377240"/>
            <a:ext cx="43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0,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+ 1,7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0,54 = 0,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,9t – 0,54 = 0,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,9t = 0,22 + 0,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,9t = 0,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= 0,76: 1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= 0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4720" y="21337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5800" y="220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13080" y="443700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№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146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б) 4,36: (3,15 + 2,3) + ( 0,792 – 0,78) * 350 =27,96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1045800" y="3933000"/>
            <a:ext cx="72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в) (3,91: 2,3 * 5,4 – 4,03) * 2,4 = 12,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76360" y="404640"/>
            <a:ext cx="4175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змин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1712880" cy="17175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203640" y="2276640"/>
            <a:ext cx="594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1 вариант  № 1439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2 вариант  № 1387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резерв 133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8028000" y="981000"/>
            <a:ext cx="1116000" cy="719280"/>
          </a:xfrm>
          <a:custGeom>
            <a:avLst/>
            <a:gdLst>
              <a:gd name="textAreaLeft" fmla="*/ 254520 w 1116000"/>
              <a:gd name="textAreaRight" fmla="*/ 861480 w 1116000"/>
              <a:gd name="textAreaTop" fmla="*/ 164160 h 719280"/>
              <a:gd name="textAreaBottom" fmla="*/ 5551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136000" y="3860640"/>
            <a:ext cx="1008000" cy="6480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765000"/>
            <a:ext cx="2268360" cy="187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68360" y="404640"/>
            <a:ext cx="18716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ши и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знай!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5057640"/>
            <a:ext cx="1079280" cy="1800360"/>
          </a:xfrm>
          <a:custGeom>
            <a:avLst/>
            <a:gdLst>
              <a:gd name="textAreaLeft" fmla="*/ 444600 w 1079280"/>
              <a:gd name="textAreaRight" fmla="*/ 634680 w 1079280"/>
              <a:gd name="textAreaTop" fmla="*/ 741960 h 1800360"/>
              <a:gd name="textAreaBottom" fmla="*/ 10584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88360" y="1440"/>
            <a:ext cx="7954560" cy="69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99ff"/>
                </a:solidFill>
                <a:latin typeface="Arial"/>
              </a:rPr>
              <a:t>          </a:t>
            </a:r>
            <a:r>
              <a:rPr b="1" lang="tt-RU" sz="4000" spc="-1" strike="noStrike">
                <a:solidFill>
                  <a:srgbClr val="ff99ff"/>
                </a:solidFill>
                <a:latin typeface="Arial"/>
              </a:rPr>
              <a:t>1) 2,24:0,7</a:t>
            </a:r>
            <a:r>
              <a:rPr b="0" lang="tt-RU" sz="4000" spc="-1" strike="noStrike">
                <a:solidFill>
                  <a:srgbClr val="ff99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ffff66"/>
                </a:solidFill>
                <a:latin typeface="Arial"/>
              </a:rPr>
              <a:t>            </a:t>
            </a:r>
            <a:r>
              <a:rPr b="1" i="1" lang="tt-RU" sz="3600" spc="-1" strike="noStrike">
                <a:solidFill>
                  <a:srgbClr val="ffff66"/>
                </a:solidFill>
                <a:latin typeface="Arial"/>
              </a:rPr>
              <a:t>0,32 – </a:t>
            </a:r>
            <a:r>
              <a:rPr b="1" i="1" lang="tt-RU" sz="3600" spc="-1" strike="noStrike">
                <a:solidFill>
                  <a:srgbClr val="ff0066"/>
                </a:solidFill>
                <a:latin typeface="Arial"/>
              </a:rPr>
              <a:t>В </a:t>
            </a:r>
            <a:r>
              <a:rPr b="1" i="1" lang="tt-RU" sz="3600" spc="-1" strike="noStrike">
                <a:solidFill>
                  <a:srgbClr val="ffff66"/>
                </a:solidFill>
                <a:latin typeface="Arial"/>
              </a:rPr>
              <a:t>    3,2 – </a:t>
            </a:r>
            <a:r>
              <a:rPr b="1" i="1" lang="tt-RU" sz="3600" spc="-1" strike="noStrike">
                <a:solidFill>
                  <a:srgbClr val="ff0066"/>
                </a:solidFill>
                <a:latin typeface="Arial"/>
              </a:rPr>
              <a:t>И   </a:t>
            </a:r>
            <a:r>
              <a:rPr b="1" i="1" lang="tt-RU" sz="3600" spc="-1" strike="noStrike">
                <a:solidFill>
                  <a:srgbClr val="ffff66"/>
                </a:solidFill>
                <a:latin typeface="Arial"/>
              </a:rPr>
              <a:t> 32 -  </a:t>
            </a:r>
            <a:r>
              <a:rPr b="1" i="1" lang="tt-RU" sz="36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i="1" lang="tt-RU" sz="36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99ff"/>
                </a:solidFill>
                <a:latin typeface="Arial"/>
              </a:rPr>
              <a:t>           </a:t>
            </a:r>
            <a:r>
              <a:rPr b="0" lang="tt-RU" sz="4000" spc="-1" strike="noStrike">
                <a:solidFill>
                  <a:srgbClr val="ff99ff"/>
                </a:solidFill>
                <a:latin typeface="Arial"/>
              </a:rPr>
              <a:t>2) 365,4:8,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66"/>
                </a:solidFill>
                <a:latin typeface="Arial"/>
              </a:rPr>
              <a:t>             </a:t>
            </a:r>
            <a:r>
              <a:rPr b="1" lang="tt-RU" sz="3600" spc="-1" strike="noStrike">
                <a:solidFill>
                  <a:srgbClr val="ffff66"/>
                </a:solidFill>
                <a:latin typeface="Arial"/>
              </a:rPr>
              <a:t>43,5 – </a:t>
            </a:r>
            <a:r>
              <a:rPr b="1" lang="tt-RU" sz="36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tt-RU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tt-RU" sz="3600" spc="-1" strike="noStrike">
                <a:solidFill>
                  <a:srgbClr val="ffff66"/>
                </a:solidFill>
                <a:latin typeface="Arial"/>
              </a:rPr>
              <a:t>   435 – </a:t>
            </a:r>
            <a:r>
              <a:rPr b="1" lang="tt-RU" sz="3600" spc="-1" strike="noStrike">
                <a:solidFill>
                  <a:srgbClr val="ff0066"/>
                </a:solidFill>
                <a:latin typeface="Arial"/>
              </a:rPr>
              <a:t>У  </a:t>
            </a:r>
            <a:r>
              <a:rPr b="1" lang="tt-RU" sz="3600" spc="-1" strike="noStrike">
                <a:solidFill>
                  <a:srgbClr val="ffff66"/>
                </a:solidFill>
                <a:latin typeface="Arial"/>
              </a:rPr>
              <a:t>4,35 - </a:t>
            </a:r>
            <a:r>
              <a:rPr b="1" lang="tt-RU" sz="3600" spc="-1" strike="noStrike">
                <a:solidFill>
                  <a:srgbClr val="ff0066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99ff"/>
                </a:solidFill>
                <a:latin typeface="Arial"/>
              </a:rPr>
              <a:t>           </a:t>
            </a:r>
            <a:r>
              <a:rPr b="1" lang="tt-RU" sz="4000" spc="-1" strike="noStrike">
                <a:solidFill>
                  <a:srgbClr val="ff99ff"/>
                </a:solidFill>
                <a:latin typeface="Arial"/>
              </a:rPr>
              <a:t>3) 97,6: 0,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66"/>
                </a:solidFill>
                <a:latin typeface="Arial"/>
              </a:rPr>
              <a:t>3,05 – </a:t>
            </a:r>
            <a:r>
              <a:rPr b="1" lang="tt-RU" sz="3600" spc="-1" strike="noStrike">
                <a:solidFill>
                  <a:srgbClr val="ff0066"/>
                </a:solidFill>
                <a:latin typeface="Arial"/>
              </a:rPr>
              <a:t>С</a:t>
            </a:r>
            <a:r>
              <a:rPr b="1" lang="tt-RU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tt-RU" sz="3600" spc="-1" strike="noStrike">
                <a:solidFill>
                  <a:srgbClr val="ffff66"/>
                </a:solidFill>
                <a:latin typeface="Arial"/>
              </a:rPr>
              <a:t>   30,5 – </a:t>
            </a:r>
            <a:r>
              <a:rPr b="1" lang="tt-RU" sz="36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1" lang="tt-RU" sz="3600" spc="-1" strike="noStrike">
                <a:solidFill>
                  <a:srgbClr val="ffff66"/>
                </a:solidFill>
                <a:latin typeface="Arial"/>
              </a:rPr>
              <a:t>  305 – </a:t>
            </a:r>
            <a:r>
              <a:rPr b="1" lang="tt-RU" sz="3600" spc="-1" strike="noStrike">
                <a:solidFill>
                  <a:srgbClr val="ff0066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99ff"/>
                </a:solidFill>
                <a:latin typeface="Arial"/>
              </a:rPr>
              <a:t>           </a:t>
            </a:r>
            <a:r>
              <a:rPr b="1" lang="tt-RU" sz="4000" spc="-1" strike="noStrike">
                <a:solidFill>
                  <a:srgbClr val="ff99ff"/>
                </a:solidFill>
                <a:latin typeface="Arial"/>
              </a:rPr>
              <a:t>4) 67,394:0,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66"/>
                </a:solidFill>
                <a:latin typeface="Arial"/>
              </a:rPr>
              <a:t>673,94 – </a:t>
            </a:r>
            <a:r>
              <a:rPr b="1" lang="tt-RU" sz="3600" spc="-1" strike="noStrike">
                <a:solidFill>
                  <a:srgbClr val="ff0066"/>
                </a:solidFill>
                <a:latin typeface="Arial"/>
              </a:rPr>
              <a:t>Л</a:t>
            </a:r>
            <a:r>
              <a:rPr b="1" lang="tt-RU" sz="3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tt-RU" sz="3600" spc="-1" strike="noStrike">
                <a:solidFill>
                  <a:srgbClr val="ffff66"/>
                </a:solidFill>
                <a:latin typeface="Arial"/>
              </a:rPr>
              <a:t>67,394 – </a:t>
            </a:r>
            <a:r>
              <a:rPr b="1" lang="tt-RU" sz="3600" spc="-1" strike="noStrike">
                <a:solidFill>
                  <a:srgbClr val="ff0066"/>
                </a:solidFill>
                <a:latin typeface="Arial"/>
              </a:rPr>
              <a:t>П</a:t>
            </a:r>
            <a:r>
              <a:rPr b="1" lang="tt-RU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tt-RU" sz="3600" spc="-1" strike="noStrike">
                <a:solidFill>
                  <a:srgbClr val="ffff66"/>
                </a:solidFill>
                <a:latin typeface="Arial"/>
              </a:rPr>
              <a:t>6,7394 – </a:t>
            </a:r>
            <a:r>
              <a:rPr b="1" lang="tt-RU" sz="3600" spc="-1" strike="noStrike">
                <a:solidFill>
                  <a:srgbClr val="ff0066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99ff"/>
                </a:solidFill>
                <a:latin typeface="Arial"/>
              </a:rPr>
              <a:t>            </a:t>
            </a:r>
            <a:r>
              <a:rPr b="1" lang="tt-RU" sz="4000" spc="-1" strike="noStrike">
                <a:solidFill>
                  <a:srgbClr val="ff99ff"/>
                </a:solidFill>
                <a:latin typeface="Arial"/>
              </a:rPr>
              <a:t>5) 86,1:0,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66"/>
                </a:solidFill>
                <a:latin typeface="Arial"/>
              </a:rPr>
              <a:t>2,5 – </a:t>
            </a:r>
            <a:r>
              <a:rPr b="1" lang="tt-RU" sz="36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tt-RU" sz="3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tt-RU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tt-RU" sz="3600" spc="-1" strike="noStrike">
                <a:solidFill>
                  <a:srgbClr val="ffff66"/>
                </a:solidFill>
                <a:latin typeface="Arial"/>
              </a:rPr>
              <a:t>205 – </a:t>
            </a:r>
            <a:r>
              <a:rPr b="1" lang="tt-RU" sz="3600" spc="-1" strike="noStrike">
                <a:solidFill>
                  <a:srgbClr val="ff0066"/>
                </a:solidFill>
                <a:latin typeface="Arial"/>
              </a:rPr>
              <a:t>Ь</a:t>
            </a:r>
            <a:r>
              <a:rPr b="1" lang="tt-RU" sz="3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tt-RU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tt-RU" sz="3600" spc="-1" strike="noStrike">
                <a:solidFill>
                  <a:srgbClr val="ffff66"/>
                </a:solidFill>
                <a:latin typeface="Arial"/>
              </a:rPr>
              <a:t>20,5 – </a:t>
            </a:r>
            <a:r>
              <a:rPr b="1" lang="tt-RU" sz="3600" spc="-1" strike="noStrike">
                <a:solidFill>
                  <a:srgbClr val="ff0066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684360" y="333360"/>
            <a:ext cx="46796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ДЕЛ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50560" y="763920"/>
            <a:ext cx="4908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99"/>
                </a:solidFill>
                <a:latin typeface="Arial"/>
              </a:rPr>
              <a:t>Эх, Идел суы – туган 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99"/>
                </a:solidFill>
                <a:latin typeface="Arial"/>
              </a:rPr>
              <a:t>Ярларына тулган с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99"/>
                </a:solidFill>
                <a:latin typeface="Arial"/>
              </a:rPr>
              <a:t>Рәхәт биреп йөрәкләргә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99"/>
                </a:solidFill>
                <a:latin typeface="Arial"/>
              </a:rPr>
              <a:t>Җәелеп ага торган су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00000" y="570024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Arial"/>
              </a:rPr>
              <a:t>Протяжённость реки  3900 км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050920" y="476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Әхмет Исха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12:31:53Z</dcterms:created>
  <dc:creator>user</dc:creator>
  <dc:description/>
  <dc:language>en-US</dc:language>
  <cp:lastModifiedBy>УЧИТЕЛЬ</cp:lastModifiedBy>
  <dcterms:modified xsi:type="dcterms:W3CDTF">2008-06-07T09:46:14Z</dcterms:modified>
  <cp:revision>16</cp:revision>
  <dc:subject/>
  <dc:title>Слайд 1</dc:title>
</cp:coreProperties>
</file>